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A595-E1A9-4631-BAFC-4A7371806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028E-5460-4CB9-B22B-E931644AC4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A55-CC10-44E6-A0D2-09E3E053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A47-FB17-46FA-A100-516A35BC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91A-4149-4279-B8AB-E1B8FED8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042-0053-4885-9ED8-278B5FE4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CDB-84D8-404D-83F5-E49F9074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98C-7D15-443C-84AC-AA64E18D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673-49A9-4DF1-898B-E3F9E8F3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79C-27A0-46B5-A5CE-0E43AEA9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234-CB46-4AE0-A398-D4C4F2BF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66E-FF82-4C0A-B939-49CFD31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985-7B7F-408B-9296-1B4A41C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E66-D162-4D14-8176-DAFCFCB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375-8DD4-47DF-A616-FCF65446B3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8T18:40:23Z</dcterms:modified>
  <cp:revision>33</cp:revision>
  <dc:subject/>
  <dc:title>What Goes Up Must Come Down</dc:title>
</cp:coreProperties>
</file>